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up202.wav" ContentType="audio/x-wav"/>
  <Override PartName="/ppt/media/planeflyby.wav" ContentType="audio/x-wav"/>
  <Override PartName="/ppt/media/jetflyby2.wav" ContentType="audio/x-wav"/>
  <Override PartName="/ppt/media/peopleooo.wav" ContentType="audio/x-wav"/>
  <Override PartName="/ppt/media/carbrake.wav" ContentType="audio/x-wav"/>
  <Override PartName="/ppt/media/jetflyby.wav" ContentType="audio/x-wav"/>
  <Override PartName="/ppt/media/zipby102.wav" ContentType="audio/x-wav"/>
  <Override PartName="/ppt/media/gunshot.wav" ContentType="audio/x-wav"/>
  <Override PartName="/ppt/media/ricochet.wav" ContentType="audio/x-wav"/>
  <Override PartName="/ppt/media/cool%20man.wav" ContentType="audio/x-wav"/>
  <Override PartName="/ppt/media/highchime.wav" ContentType="audio/x-wav"/>
  <Override PartName="/ppt/media/boinng04.wav" ContentType="audio/x-wav"/>
  <Override PartName="/ppt/media/lzipup01.wav" ContentType="audio/x-wav"/>
  <Override PartName="/ppt/media/byipee04.wav" ContentType="audio/x-wav"/>
  <Override PartName="/ppt/media/projctor.wav" ContentType="audio/x-wav"/>
  <Override PartName="/ppt/media/zapvib04.wav" ContentType="audio/x-wav"/>
  <Override PartName="/ppt/media/zipdn102.wav" ContentType="audio/x-wav"/>
  <Override PartName="/ppt/media/glass.wav" ContentType="audio/x-wav"/>
  <Override PartName="/ppt/media/kisbig07.wav" ContentType="audio/x-wav"/>
  <Override PartName="/ppt/media/driveby.wav" ContentType="audio/x-wav"/>
  <Override PartName="/ppt/media/zapbig0g.wav" ContentType="audio/x-wav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AD0-A199-49E0-B53B-217B6E4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497-4E63-440D-AF59-F0AD5B76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966-449C-41AC-9BBC-17014EF3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8F0-5444-4CC4-AEB4-3ABA850E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C9E-BC2B-4E9A-B642-4269CC86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E8F-BCE5-4F79-80D9-B4D96EB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44F-9A6C-4169-ABDF-F6E13E24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0A3-C428-459B-AF24-963F246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D09-62CC-448F-A55F-6944012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427-F959-43B0-8D5B-C2B413A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BF91-97C0-48A9-BBBC-E8F7C979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DE-6407-4D29-A08C-766E7D97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820-6502-4472-90D8-A8519D16D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jetfly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peopleooo.wav"/><Relationship Id="rId17" Type="http://schemas.openxmlformats.org/officeDocument/2006/relationships/audio" Target="../media/peopleooo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laser.wav"/><Relationship Id="rId21" Type="http://schemas.openxmlformats.org/officeDocument/2006/relationships/audio" Target="../media/zapbig0g.wav"/><Relationship Id="rId22" Type="http://schemas.openxmlformats.org/officeDocument/2006/relationships/audio" Target="../media/zipdn102.wav"/><Relationship Id="rId23" Type="http://schemas.openxmlformats.org/officeDocument/2006/relationships/audio" Target="../media/zipdn102.wav"/><Relationship Id="rId24" Type="http://schemas.openxmlformats.org/officeDocument/2006/relationships/audio" Target="../media/driveby.wav"/><Relationship Id="rId25" Type="http://schemas.openxmlformats.org/officeDocument/2006/relationships/audio" Target="../media/boinng04.wav"/><Relationship Id="rId26" Type="http://schemas.openxmlformats.org/officeDocument/2006/relationships/audio" Target="../media/kisbig07.wav"/><Relationship Id="rId27" Type="http://schemas.openxmlformats.org/officeDocument/2006/relationships/audio" Target="../media/boinng04.wav"/><Relationship Id="rId28" Type="http://schemas.openxmlformats.org/officeDocument/2006/relationships/audio" Target="../media/boinng04.wav"/><Relationship Id="rId29" Type="http://schemas.openxmlformats.org/officeDocument/2006/relationships/audio" Target="../media/boinng04.wav"/><Relationship Id="rId30" Type="http://schemas.openxmlformats.org/officeDocument/2006/relationships/audio" Target="../media/boinng04.wav"/><Relationship Id="rId31" Type="http://schemas.openxmlformats.org/officeDocument/2006/relationships/audio" Target="../media/lzipup01.wav"/><Relationship Id="rId32" Type="http://schemas.openxmlformats.org/officeDocument/2006/relationships/audio" Target="../media/boinng04.wav"/><Relationship Id="rId33" Type="http://schemas.openxmlformats.org/officeDocument/2006/relationships/audio" Target="../media/kisbig07.wav"/><Relationship Id="rId34" Type="http://schemas.openxmlformats.org/officeDocument/2006/relationships/audio" Target="../media/byipee04.wav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driveby.wav"/><Relationship Id="rId10" Type="http://schemas.openxmlformats.org/officeDocument/2006/relationships/audio" Target="../media/gunshot.wav"/><Relationship Id="rId11" Type="http://schemas.openxmlformats.org/officeDocument/2006/relationships/audio" Target="../media/gunshot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jetflyby.wav"/><Relationship Id="rId15" Type="http://schemas.openxmlformats.org/officeDocument/2006/relationships/audio" Target="../media/gunshot.wav"/><Relationship Id="rId16" Type="http://schemas.openxmlformats.org/officeDocument/2006/relationships/audio" Target="../media/ricochet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driveby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gunshot.wav"/><Relationship Id="rId28" Type="http://schemas.openxmlformats.org/officeDocument/2006/relationships/audio" Target="../media/laser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laser.wav"/><Relationship Id="rId35" Type="http://schemas.openxmlformats.org/officeDocument/2006/relationships/audio" Target="../media/carbrak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gunshot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peopleooo.wav"/><Relationship Id="rId23" Type="http://schemas.openxmlformats.org/officeDocument/2006/relationships/audio" Target="../media/peopleooo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laser.wav"/><Relationship Id="rId27" Type="http://schemas.openxmlformats.org/officeDocument/2006/relationships/audio" Target="../media/zapbig0g.wav"/><Relationship Id="rId28" Type="http://schemas.openxmlformats.org/officeDocument/2006/relationships/audio" Target="../media/zipdn102.wav"/><Relationship Id="rId29" Type="http://schemas.openxmlformats.org/officeDocument/2006/relationships/audio" Target="../media/zipdn102.wav"/><Relationship Id="rId30" Type="http://schemas.openxmlformats.org/officeDocument/2006/relationships/audio" Target="../media/driveby.wav"/><Relationship Id="rId31" Type="http://schemas.openxmlformats.org/officeDocument/2006/relationships/audio" Target="../media/boinng04.wav"/><Relationship Id="rId32" Type="http://schemas.openxmlformats.org/officeDocument/2006/relationships/audio" Target="../media/kisbig07.wav"/><Relationship Id="rId33" Type="http://schemas.openxmlformats.org/officeDocument/2006/relationships/audio" Target="../media/gunshot.wav"/><Relationship Id="rId34" Type="http://schemas.openxmlformats.org/officeDocument/2006/relationships/audio" Target="../media/laser.wav"/><Relationship Id="rId35" Type="http://schemas.openxmlformats.org/officeDocument/2006/relationships/audio" Target="../media/gunshot.wav"/><Relationship Id="rId36" Type="http://schemas.openxmlformats.org/officeDocument/2006/relationships/audio" Target="../media/laser.wav"/><Relationship Id="rId37" Type="http://schemas.openxmlformats.org/officeDocument/2006/relationships/audio" Target="../media/gunshot.wav"/><Relationship Id="rId38" Type="http://schemas.openxmlformats.org/officeDocument/2006/relationships/audio" Target="../media/gunshot.wav"/><Relationship Id="rId39" Type="http://schemas.openxmlformats.org/officeDocument/2006/relationships/audio" Target="../media/cool%20man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981080"/>
                <a:ext cx="32400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6541920" y="5578560"/>
                <a:ext cx="1341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715000" y="184464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791320" y="245412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7162920" y="2454120"/>
                <a:ext cx="1141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5410080" y="30639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715000" y="321624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705720" y="36734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51760" y="2453400"/>
            <a:ext cx="5410800" cy="1719000"/>
            <a:chOff x="1751760" y="2453400"/>
            <a:chExt cx="5410800" cy="1719000"/>
          </a:xfrm>
        </p:grpSpPr>
        <p:cxnSp>
          <p:nvCxnSpPr>
            <p:cNvPr id="51" name=""/>
            <p:cNvCxnSpPr/>
            <p:nvPr/>
          </p:nvCxnSpPr>
          <p:spPr>
            <a:xfrm flipV="1" rot="16200000">
              <a:off x="3954240" y="250920"/>
              <a:ext cx="1006200" cy="5411160"/>
            </a:xfrm>
            <a:prstGeom prst="curvedConnector5">
              <a:avLst>
                <a:gd name="adj1" fmla="val -70901"/>
                <a:gd name="adj2" fmla="val 50000"/>
                <a:gd name="adj3" fmla="val -7090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>
              <a:off x="3348360" y="353592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04920" y="3962520"/>
                <a:ext cx="41544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4054320"/>
                <a:ext cx="1871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466416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698480" y="466416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4648320"/>
                <a:ext cx="16876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22600" y="512136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05320" y="5105520"/>
                <a:ext cx="1049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85800" y="573084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09680" y="5708520"/>
                <a:ext cx="11401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29080" y="5686560"/>
                <a:ext cx="11858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347920" y="631836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38280" y="6218280"/>
                <a:ext cx="820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643200" y="631836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09880" y="6219720"/>
                <a:ext cx="820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85800" y="603576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43000" y="5883120"/>
                <a:ext cx="779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638680" y="4054320"/>
                <a:ext cx="32054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413480" y="4130640"/>
                <a:ext cx="320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638680" y="4816440"/>
                <a:ext cx="2289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986600" y="4816440"/>
                <a:ext cx="868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" name=""/>
          <p:cNvGrpSpPr/>
          <p:nvPr/>
        </p:nvGrpSpPr>
        <p:grpSpPr>
          <a:xfrm>
            <a:off x="3733560" y="2211120"/>
            <a:ext cx="1904760" cy="1236240"/>
            <a:chOff x="3733560" y="2211120"/>
            <a:chExt cx="1904760" cy="1236240"/>
          </a:xfrm>
        </p:grpSpPr>
        <p:sp>
          <p:nvSpPr>
            <p:cNvPr id="74" name=""/>
            <p:cNvSpPr/>
            <p:nvPr/>
          </p:nvSpPr>
          <p:spPr>
            <a:xfrm>
              <a:off x="3885840" y="2987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/>
            <p:nvPr/>
          </p:nvCxnSpPr>
          <p:spPr>
            <a:xfrm flipV="1">
              <a:off x="3733560" y="2211120"/>
              <a:ext cx="1752840" cy="805680"/>
            </a:xfrm>
            <a:prstGeom prst="curvedConnector5">
              <a:avLst>
                <a:gd name="adj1" fmla="val 50000"/>
                <a:gd name="adj2" fmla="val 49977"/>
                <a:gd name="adj3" fmla="val 50000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172200" y="3063960"/>
                <a:ext cx="1457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43800" y="3063960"/>
                <a:ext cx="81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58920" y="2003400"/>
                <a:ext cx="37432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867280" y="5376960"/>
                <a:ext cx="19623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607080" y="3406680"/>
                <a:ext cx="77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" name=""/>
          <p:cNvGrpSpPr/>
          <p:nvPr/>
        </p:nvGrpSpPr>
        <p:grpSpPr>
          <a:xfrm>
            <a:off x="4168800" y="1902600"/>
            <a:ext cx="784080" cy="581400"/>
            <a:chOff x="4168800" y="1902600"/>
            <a:chExt cx="784080" cy="581400"/>
          </a:xfrm>
        </p:grpSpPr>
        <p:sp>
          <p:nvSpPr>
            <p:cNvPr id="88" name=""/>
            <p:cNvSpPr/>
            <p:nvPr/>
          </p:nvSpPr>
          <p:spPr>
            <a:xfrm flipV="1">
              <a:off x="4168800" y="2394720"/>
              <a:ext cx="784080" cy="2052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343400" y="190224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84080" y="3657600"/>
                <a:ext cx="35607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705720" y="4060800"/>
            <a:ext cx="7617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58000" y="403848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696080" y="4060800"/>
            <a:ext cx="6098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848720" y="4038480"/>
                <a:ext cx="457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04000" y="4952880"/>
                <a:ext cx="503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261200" y="4495680"/>
                <a:ext cx="118908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3429000"/>
                <a:ext cx="671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876920" y="4038480"/>
                <a:ext cx="123660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315200" y="3429000"/>
                <a:ext cx="10954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47920" y="5486400"/>
                <a:ext cx="928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514600" y="5486400"/>
                <a:ext cx="938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33440" y="6585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213080" y="4465800"/>
                <a:ext cx="728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89480" y="2003400"/>
                <a:ext cx="731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867280" y="1981080"/>
                <a:ext cx="1189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064280" y="200340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168800" y="2612880"/>
            <a:ext cx="631800" cy="579600"/>
            <a:chOff x="4168800" y="2612880"/>
            <a:chExt cx="631800" cy="579600"/>
          </a:xfrm>
        </p:grpSpPr>
        <p:sp>
          <p:nvSpPr>
            <p:cNvPr id="109" name=""/>
            <p:cNvSpPr/>
            <p:nvPr/>
          </p:nvSpPr>
          <p:spPr>
            <a:xfrm>
              <a:off x="4168800" y="3146400"/>
              <a:ext cx="6318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314600" y="2612880"/>
              <a:ext cx="19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743200"/>
                <a:ext cx="30132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2" name=""/>
          <p:cNvCxnSpPr/>
          <p:nvPr/>
        </p:nvCxnSpPr>
        <p:spPr>
          <a:xfrm rot="5400000">
            <a:off x="141840" y="2850840"/>
            <a:ext cx="1837440" cy="554760"/>
          </a:xfrm>
          <a:prstGeom prst="curvedConnector5">
            <a:avLst>
              <a:gd name="adj1" fmla="val 6995"/>
              <a:gd name="adj2" fmla="val 79480"/>
              <a:gd name="adj3" fmla="val 69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2120" y="4343400"/>
                <a:ext cx="28461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191120"/>
                <a:ext cx="8413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15000" y="4114800"/>
                <a:ext cx="84132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137120" y="5943600"/>
                <a:ext cx="4572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495680" y="5442120"/>
                <a:ext cx="114480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 flipV="1">
            <a:off x="5334120" y="4266720"/>
            <a:ext cx="685800" cy="304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05520" y="3886200"/>
                <a:ext cx="496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6095880" y="4876920"/>
            <a:ext cx="45720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84320" y="1981080"/>
                <a:ext cx="3787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284880" y="5610240"/>
                <a:ext cx="1984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943600" y="1828800"/>
                <a:ext cx="2281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53080" y="2438280"/>
                <a:ext cx="730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696080" y="2438280"/>
                <a:ext cx="730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410080" y="30639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15000" y="321624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705720" y="367344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51760" y="3429000"/>
            <a:ext cx="5410800" cy="767520"/>
            <a:chOff x="1751760" y="3429000"/>
            <a:chExt cx="5410800" cy="767520"/>
          </a:xfrm>
        </p:grpSpPr>
        <p:cxnSp>
          <p:nvCxnSpPr>
            <p:cNvPr id="131" name=""/>
            <p:cNvCxnSpPr/>
            <p:nvPr/>
          </p:nvCxnSpPr>
          <p:spPr>
            <a:xfrm flipV="1" rot="16200000">
              <a:off x="4313880" y="866880"/>
              <a:ext cx="286920" cy="5411160"/>
            </a:xfrm>
            <a:prstGeom prst="curvedConnector5">
              <a:avLst>
                <a:gd name="adj1" fmla="val -70979"/>
                <a:gd name="adj2" fmla="val 50000"/>
                <a:gd name="adj3" fmla="val -7097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348360" y="373680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bstitute in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4920" y="3962520"/>
                <a:ext cx="47019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90720" y="3962520"/>
                <a:ext cx="1460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4648320"/>
                <a:ext cx="9586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98480" y="466416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4648320"/>
                <a:ext cx="21891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22600" y="5121360"/>
                <a:ext cx="1047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09880" y="5105520"/>
                <a:ext cx="1049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85800" y="5730840"/>
            <a:ext cx="4114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5715000"/>
                <a:ext cx="1003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551400" y="5708520"/>
                <a:ext cx="1139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347920" y="6318360"/>
            <a:ext cx="10666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514600" y="6218280"/>
                <a:ext cx="6843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643200" y="631836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62520" y="6219720"/>
                <a:ext cx="68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04920" y="601992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5681520"/>
                <a:ext cx="12956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38680" y="3962520"/>
                <a:ext cx="304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0280" y="3886200"/>
                <a:ext cx="701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486400" y="4648320"/>
                <a:ext cx="2570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043840" y="4648320"/>
                <a:ext cx="11001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" name=""/>
          <p:cNvGrpSpPr/>
          <p:nvPr/>
        </p:nvGrpSpPr>
        <p:grpSpPr>
          <a:xfrm>
            <a:off x="3733560" y="2133360"/>
            <a:ext cx="1904760" cy="710640"/>
            <a:chOff x="3733560" y="2133360"/>
            <a:chExt cx="1904760" cy="710640"/>
          </a:xfrm>
        </p:grpSpPr>
        <p:sp>
          <p:nvSpPr>
            <p:cNvPr id="154" name=""/>
            <p:cNvSpPr/>
            <p:nvPr/>
          </p:nvSpPr>
          <p:spPr>
            <a:xfrm>
              <a:off x="3885840" y="2384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ve for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V="1">
              <a:off x="3733560" y="2133360"/>
              <a:ext cx="1752840" cy="261360"/>
            </a:xfrm>
            <a:prstGeom prst="curvedConnector5">
              <a:avLst>
                <a:gd name="adj1" fmla="val 50000"/>
                <a:gd name="adj2" fmla="val 49931"/>
                <a:gd name="adj3" fmla="val 50000"/>
              </a:avLst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330960" y="3063960"/>
                <a:ext cx="11383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43800" y="3063960"/>
                <a:ext cx="819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ing a Solu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Choose a method to solve the linear system. Explain your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st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1430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For a community bake sale, you purchased 12 pounds of sugar an 15 pounds of flour.  Your total cost wa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$7.95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  The next day, at the same prices you purchased 4 pounds of sugar and 10 pounds of flour.  Your total cost the second day wa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$3.9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 Find the cost per pound of sugar and flour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880" y="3070080"/>
                <a:ext cx="80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7200" y="3630600"/>
                <a:ext cx="609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098720" y="3633840"/>
                <a:ext cx="1263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347920" y="3618000"/>
                <a:ext cx="14619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2895480"/>
                <a:ext cx="37432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952880" y="426708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943600" y="4267080"/>
                <a:ext cx="14112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400800" y="495288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248520" y="4876920"/>
                <a:ext cx="105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7985160" y="492120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810560" y="4876920"/>
                <a:ext cx="1050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781680" y="5334120"/>
                <a:ext cx="5511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186680" y="5349960"/>
                <a:ext cx="1554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162920" y="4267080"/>
                <a:ext cx="1825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 flipH="1">
            <a:off x="5409720" y="2895480"/>
            <a:ext cx="685800" cy="152424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038480" y="2819160"/>
            <a:ext cx="990360" cy="579240"/>
            <a:chOff x="4038480" y="2819160"/>
            <a:chExt cx="990360" cy="579240"/>
          </a:xfrm>
        </p:grpSpPr>
        <p:sp>
          <p:nvSpPr>
            <p:cNvPr id="179" name=""/>
            <p:cNvSpPr/>
            <p:nvPr/>
          </p:nvSpPr>
          <p:spPr>
            <a:xfrm>
              <a:off x="4038480" y="33526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267080" y="2818800"/>
              <a:ext cx="304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876920" y="3581280"/>
                <a:ext cx="12776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57200" y="4114800"/>
                <a:ext cx="4191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4191120"/>
                <a:ext cx="990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5562720"/>
                <a:ext cx="1449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47920" y="5105520"/>
                <a:ext cx="1074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5105520"/>
                <a:ext cx="1074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09480" y="56386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28800" y="5562720"/>
                <a:ext cx="6890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89" name=""/>
          <p:cNvCxnSpPr/>
          <p:nvPr/>
        </p:nvCxnSpPr>
        <p:spPr>
          <a:xfrm flipH="1" flipV="1" rot="10800000">
            <a:off x="456840" y="3915360"/>
            <a:ext cx="2160" cy="5641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809880" y="5954760"/>
            <a:ext cx="38102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$0.35 per lb for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$0.25 per lb for f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3000" y="3063960"/>
                <a:ext cx="129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62320" y="3048120"/>
                <a:ext cx="1447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3" name=""/>
          <p:cNvGrpSpPr/>
          <p:nvPr/>
        </p:nvGrpSpPr>
        <p:grpSpPr>
          <a:xfrm>
            <a:off x="4038480" y="3506400"/>
            <a:ext cx="990720" cy="581400"/>
            <a:chOff x="4038480" y="3506400"/>
            <a:chExt cx="990720" cy="581400"/>
          </a:xfrm>
        </p:grpSpPr>
        <p:sp>
          <p:nvSpPr>
            <p:cNvPr id="194" name=""/>
            <p:cNvSpPr/>
            <p:nvPr/>
          </p:nvSpPr>
          <p:spPr>
            <a:xfrm>
              <a:off x="4038480" y="403848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267080" y="35060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019920" y="3581280"/>
                <a:ext cx="1504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338960" y="3581280"/>
                <a:ext cx="18050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62120" y="4648320"/>
                <a:ext cx="3163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905120" y="6172200"/>
            <a:ext cx="609480" cy="144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133720" y="6172200"/>
                <a:ext cx="4125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971800" y="6172200"/>
            <a:ext cx="779400" cy="144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124080" y="6172200"/>
                <a:ext cx="41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8360" y="5989680"/>
                <a:ext cx="411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520" y="5943600"/>
                <a:ext cx="12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500"/>
                            </p:stCondLst>
                            <p:childTnLst>
                              <p:par>
                                <p:cTn id="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2-11-21T16:53:05Z</dcterms:modified>
  <cp:revision>129</cp:revision>
  <dc:subject/>
  <dc:title>PowerPoint Presentation</dc:title>
</cp:coreProperties>
</file>